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89BA-7AE8-4349-ACD1-9D476CBE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16E7-4F43-4608-8D08-6E929F92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7723-1C0D-474E-83AC-E6479195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0B77-C09C-4EE5-A080-50CB40A8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3DEA-1DED-4AEC-A43B-29D9EF6A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F313-6B74-439C-94E9-40FE82A5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E803-44E9-40D5-964A-F36D9C19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EFC0-6BBF-413E-BE8D-7277D8FE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FE94-40B9-4A8F-A4AF-96A51AB6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F2D0-3E95-4DE7-BB91-1EEE9424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DCD5-E690-4279-9BAB-C3DB5475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BE39-FEBE-418F-B0B8-145FF924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E9C1-9846-45AB-8734-436EEC4B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31E3-89D2-4D45-84AE-E1A34A21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EB6F-C488-4D73-898F-84E03A74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EDCE-5FB9-43D9-933E-75B4704E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A634-266F-4E7E-AFEF-91E74B47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79DA-BC1B-44C0-96BA-15E34B75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0857-F0B8-4330-9564-F8536BD8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87F2-1263-46CA-970C-4019D482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4045-5CA9-4201-B749-654447B7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44A7-6F09-456C-B272-906F2F02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2A3B-78D9-4B51-8F3E-F1AD60F7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7F64-A929-438B-9EA8-77D5BF03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0C06-317E-4BF1-9A81-4993F7E25C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5F44-E0CD-4FC4-897F-D79762C701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yrene.org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Fox new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52480" y="1905120"/>
            <a:ext cx="5079960" cy="40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By: Cody ,Lucas, and Jose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464832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Volcano Erupt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cano erupts in Hawaii does 2.5 thousand in da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30480" y="1981080"/>
            <a:ext cx="27190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What causes volcano to erupt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66800" y="1981080"/>
            <a:ext cx="76089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Effects of volcano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dsl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thquak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v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lan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lling a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80844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afety Tip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y distance from volcano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touch the 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057400" y="1828800"/>
            <a:ext cx="4343400" cy="3124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09680" y="525780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00-679-729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505320" y="0"/>
            <a:ext cx="1726920" cy="16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lav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repell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ff"/>
                                      </p:to>
                                    </p:animClr>
                                    <p:set>
                                      <p:cBhvr>
                                        <p:cTn id="8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8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5480" y="-360"/>
            <a:ext cx="2819520" cy="6094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Resources 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fema.g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news.bbc.co.u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kidskonnec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volcano.und.nodak.edu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http://www.kyrene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binmaxe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ggestsof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4:26:17Z</dcterms:created>
  <dc:creator>D83  User</dc:creator>
  <dc:description/>
  <dc:language>en-US</dc:language>
  <cp:lastModifiedBy>D83  User</cp:lastModifiedBy>
  <dcterms:modified xsi:type="dcterms:W3CDTF">2011-03-23T19:19:17Z</dcterms:modified>
  <cp:revision>14</cp:revision>
  <dc:subject/>
  <dc:title>PowerPoint Presentation</dc:title>
</cp:coreProperties>
</file>